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213-448B-4CBE-A214-0DCB8A79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F11-1C72-4730-A618-6E1E5943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67A-51D5-43D0-9AFB-B423003D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084-E232-4266-9F54-E840B32D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F787-2AAC-449E-B0D9-5936E5BC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DEC7-112E-46B9-A0F2-38480520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4A0A-B988-4C3F-9330-9204B83F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A6B0-398D-4D34-AF0F-D30B8EF3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4E0F-38A2-4F9C-85F9-6A306757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4B81-6DCE-4978-9169-BFFEABFE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9195-3FC6-4416-B6DD-4F64B843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2B7-EF5F-4965-8E08-102331DF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435B-D38F-4268-846F-24494870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E471-6747-451F-9222-D445946E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878C-9129-49E8-8055-B239C1BF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7FD8-A097-4CE9-A7B5-64FCAEAB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618C-B2F3-41F3-8593-42CBCA27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5A3-4790-4FF5-812C-DC4D6CA6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B1C-2028-4B2E-8EC7-5545AE3A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7EE-DB51-495F-B96C-44DD7050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66B-7663-43EB-9362-7B051C1F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22A-CE33-4C70-865B-CF4ECF82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CC2-9BFC-4012-9658-D86A6975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18C-AAE3-4C33-8419-6D995B59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3BBB-5F74-48FB-8D6F-E40DA9B00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B787-E706-4FA7-8F56-475686D6B0A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"/>
          <p:cNvSpPr/>
          <p:nvPr/>
        </p:nvSpPr>
        <p:spPr>
          <a:xfrm>
            <a:off x="826920" y="907920"/>
            <a:ext cx="7377120" cy="71640"/>
          </a:xfrm>
          <a:prstGeom prst="pie">
            <a:avLst/>
          </a:prstGeom>
          <a:solidFill>
            <a:srgbClr val="ac0000"/>
          </a:solidFill>
          <a:ln w="9360">
            <a:solidFill>
              <a:srgbClr val="a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258920" y="6381720"/>
            <a:ext cx="6049800" cy="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85716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292400" cy="3747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9"/>
          <p:cNvSpPr/>
          <p:nvPr/>
        </p:nvSpPr>
        <p:spPr>
          <a:xfrm>
            <a:off x="785880" y="6429240"/>
            <a:ext cx="700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Gdl Mortalità, Firenze 25 Gennaio 20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ahoma"/>
              </a:rPr>
              <a:t>Migliorare 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Tahoma"/>
              </a:rPr>
              <a:t>la scheda di morte Ist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35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Referenti per 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Statistiche di Mortalità per Causa in Ital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cc"/>
                </a:solidFill>
                <a:latin typeface="Tahoma"/>
              </a:rPr>
              <a:t>                                             </a:t>
            </a:r>
            <a:r>
              <a:rPr b="0" i="1" lang="it-IT" sz="2400" spc="-1" strike="noStrike">
                <a:solidFill>
                  <a:srgbClr val="0000cc"/>
                </a:solidFill>
                <a:latin typeface="Tahoma"/>
              </a:rPr>
              <a:t>Stefano Marchet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cc"/>
                </a:solidFill>
                <a:latin typeface="Tahoma"/>
              </a:rPr>
              <a:t>       </a:t>
            </a:r>
            <a:r>
              <a:rPr b="0" i="1" lang="it-IT" sz="2400" spc="-1" strike="noStrike">
                <a:solidFill>
                  <a:srgbClr val="0000cc"/>
                </a:solidFill>
                <a:latin typeface="Tahoma"/>
              </a:rPr>
              <a:t>Luisa Fro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cc"/>
                </a:solidFill>
                <a:latin typeface="Tahoma"/>
              </a:rPr>
              <a:t>Monica 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971640" y="188640"/>
            <a:ext cx="748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Speriment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ottotitolo 1"/>
          <p:cNvSpPr/>
          <p:nvPr/>
        </p:nvSpPr>
        <p:spPr>
          <a:xfrm>
            <a:off x="971640" y="907920"/>
            <a:ext cx="74167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Sottotitolo 1"/>
          <p:cNvSpPr/>
          <p:nvPr/>
        </p:nvSpPr>
        <p:spPr>
          <a:xfrm>
            <a:off x="900000" y="979560"/>
            <a:ext cx="82440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istica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 giugno è una data obbligatoria per l’invio da parte dell’Istat delle prime bozze alla ditta che predispone la stampa dei modelli per l’ed 20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28800" y="1682640"/>
          <a:ext cx="7993080" cy="4678560"/>
        </p:xfrm>
        <a:graphic>
          <a:graphicData uri="http://schemas.openxmlformats.org/drawingml/2006/table">
            <a:tbl>
              <a:tblPr/>
              <a:tblGrid>
                <a:gridCol w="2665440"/>
                <a:gridCol w="5327640"/>
              </a:tblGrid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cembre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Fase conclu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 fac-simile dei modelli è disponi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stati avviati contatti da Regioni-Asl-Ministero-Iss per coinvolgere i medi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bbraio/Marzo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rimentazione presso i medici individu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ile/Maggio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tat- Regioni-Asl-Ministero-Iss: Valutazione dei risultat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valutare la possibilità di distribuire il nuovo modello per il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esito positivo preparazione della versione defini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Oppure se esito negativ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tare se necessaria una sperimentazione più am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971640" y="188640"/>
            <a:ext cx="748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Il questionario di valutazione (1 di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Sottotitolo 1"/>
          <p:cNvSpPr/>
          <p:nvPr/>
        </p:nvSpPr>
        <p:spPr>
          <a:xfrm>
            <a:off x="857160" y="1000080"/>
            <a:ext cx="8286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aratteristich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odalità di compilazione: autocompil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biettivo: semplice e con poche domande semi-struttur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omanda finale aperta di valutazione complessiv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ottotitolo 1"/>
          <p:cNvSpPr/>
          <p:nvPr/>
        </p:nvSpPr>
        <p:spPr>
          <a:xfrm>
            <a:off x="857160" y="2565360"/>
            <a:ext cx="8286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1 questionario per medico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1 questionario per decesso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1 questionario per medico con appendice per casi emblematici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ottotitolo 1"/>
          <p:cNvSpPr/>
          <p:nvPr/>
        </p:nvSpPr>
        <p:spPr>
          <a:xfrm>
            <a:off x="857160" y="3933720"/>
            <a:ext cx="8286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istica per la preparazione del questiona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io via e-mail del questionario entro la fine della settimana per osservazion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isione del questionario sulla base delle osservazioni pervenu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sione definitiva il 5 Febbra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71640" y="188640"/>
            <a:ext cx="748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Il questionario di valutazione (2 di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ottotitolo 1"/>
          <p:cNvSpPr/>
          <p:nvPr/>
        </p:nvSpPr>
        <p:spPr>
          <a:xfrm>
            <a:off x="857160" y="1000080"/>
            <a:ext cx="8286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Sottotitolo 1"/>
          <p:cNvSpPr/>
          <p:nvPr/>
        </p:nvSpPr>
        <p:spPr>
          <a:xfrm>
            <a:off x="857160" y="1052640"/>
            <a:ext cx="828684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ree da esplorar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ico colore: problemi/vantaggi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uogo del decesso: minore ambiguità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atura Causa Violenta: è chiaro che va indicato anche il caso “Naturale”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ico riquadro: problemi nella descrizione del processo morboso, in particolare nei casi di “Esterna” 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rocesso morboso principal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rte B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odalità dell’accident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cidenti stradali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nori di un anno di vi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aratteristiche del compilatore (tipologia, età, luogo, istituzione, specializzazione,…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71640" y="188640"/>
            <a:ext cx="748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Speriment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ottotitolo 1"/>
          <p:cNvSpPr/>
          <p:nvPr/>
        </p:nvSpPr>
        <p:spPr>
          <a:xfrm>
            <a:off x="971640" y="907920"/>
            <a:ext cx="74167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ottotitolo 1"/>
          <p:cNvSpPr/>
          <p:nvPr/>
        </p:nvSpPr>
        <p:spPr>
          <a:xfrm>
            <a:off x="900000" y="907920"/>
            <a:ext cx="824400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mpistica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giugno è una data obbligatoria per l’invio da parte dell’Istat delle prime bozze alla ditta che predispone la stampa dei modelli per l’ed 20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28800" y="1928880"/>
          <a:ext cx="7993080" cy="4441680"/>
        </p:xfrm>
        <a:graphic>
          <a:graphicData uri="http://schemas.openxmlformats.org/drawingml/2006/table">
            <a:tbl>
              <a:tblPr/>
              <a:tblGrid>
                <a:gridCol w="2665440"/>
                <a:gridCol w="5327640"/>
              </a:tblGrid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cembre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tat: prepara i fac-simili dei mod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i-Asl-Ministero-Iss: avviano  contattiper coinvolgere i medi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 gennaio a marzo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rimentazione presso i medici individu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ile-maggio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tat- Regioni-Asl-Ministero-Iss: Valutazione dei risultat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valutare la possibilità di distribuire il nuovo modello per il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Oppur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tare se necessaria una sperimentazione più amp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E po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tare la possibilità di avviare eventi di form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600" y="1071720"/>
            <a:ext cx="640080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7101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4140360" y="765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2556000" y="105264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6">
            <a:hlinkClick r:id="rId2" action="ppaction://hlinksldjump"/>
          </p:cNvPr>
          <p:cNvSpPr/>
          <p:nvPr/>
        </p:nvSpPr>
        <p:spPr>
          <a:xfrm>
            <a:off x="1403280" y="270828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7">
            <a:hlinkClick r:id="rId3" action="ppaction://hlinksldjump"/>
          </p:cNvPr>
          <p:cNvSpPr/>
          <p:nvPr/>
        </p:nvSpPr>
        <p:spPr>
          <a:xfrm>
            <a:off x="900000" y="4508640"/>
            <a:ext cx="179640" cy="360360"/>
          </a:xfrm>
          <a:custGeom>
            <a:avLst/>
            <a:gdLst>
              <a:gd name="textAreaLeft" fmla="*/ 11520 w 179640"/>
              <a:gd name="textAreaRight" fmla="*/ 168120 w 17964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286">
                <a:moveTo>
                  <a:pt x="0" y="0"/>
                </a:moveTo>
                <a:lnTo>
                  <a:pt x="21600" y="0"/>
                </a:lnTo>
                <a:lnTo>
                  <a:pt x="21600" y="43286"/>
                </a:lnTo>
                <a:lnTo>
                  <a:pt x="0" y="43286"/>
                </a:lnTo>
                <a:close/>
              </a:path>
              <a:path fill="lightenLess" w="21600" h="432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6">
                <a:moveTo>
                  <a:pt x="21600" y="0"/>
                </a:moveTo>
                <a:lnTo>
                  <a:pt x="21600" y="43286"/>
                </a:lnTo>
                <a:lnTo>
                  <a:pt x="20200" y="41886"/>
                </a:lnTo>
                <a:lnTo>
                  <a:pt x="20200" y="1400"/>
                </a:lnTo>
                <a:close/>
              </a:path>
              <a:path fill="darkenLess" w="21600" h="43286">
                <a:moveTo>
                  <a:pt x="21600" y="43286"/>
                </a:moveTo>
                <a:lnTo>
                  <a:pt x="0" y="43286"/>
                </a:lnTo>
                <a:lnTo>
                  <a:pt x="1400" y="41886"/>
                </a:lnTo>
                <a:lnTo>
                  <a:pt x="20200" y="41886"/>
                </a:lnTo>
                <a:close/>
              </a:path>
              <a:path fill="lighten" w="21600" h="43286">
                <a:moveTo>
                  <a:pt x="0" y="43286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6"/>
                </a:lnTo>
                <a:close/>
              </a:path>
              <a:path fill="darken" w="21600" h="43286">
                <a:moveTo>
                  <a:pt x="10800" y="1463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286">
                <a:moveTo>
                  <a:pt x="10800" y="1501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286">
                <a:moveTo>
                  <a:pt x="8224" y="19067"/>
                </a:moveTo>
                <a:lnTo>
                  <a:pt x="12088" y="19067"/>
                </a:lnTo>
                <a:lnTo>
                  <a:pt x="12088" y="26065"/>
                </a:lnTo>
                <a:lnTo>
                  <a:pt x="13376" y="26065"/>
                </a:lnTo>
                <a:lnTo>
                  <a:pt x="13376" y="26987"/>
                </a:lnTo>
                <a:lnTo>
                  <a:pt x="8224" y="26987"/>
                </a:lnTo>
                <a:lnTo>
                  <a:pt x="8224" y="26065"/>
                </a:lnTo>
                <a:lnTo>
                  <a:pt x="9512" y="26065"/>
                </a:lnTo>
                <a:lnTo>
                  <a:pt x="9512" y="19972"/>
                </a:lnTo>
                <a:lnTo>
                  <a:pt x="8224" y="19972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10">
            <a:hlinkClick r:id="rId4" action="ppaction://hlinksldjump"/>
          </p:cNvPr>
          <p:cNvSpPr/>
          <p:nvPr/>
        </p:nvSpPr>
        <p:spPr>
          <a:xfrm>
            <a:off x="8028000" y="220500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7596360" y="1844640"/>
            <a:ext cx="6476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50920" y="2492280"/>
            <a:ext cx="8893080" cy="177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L’unificazione dei riquadri “naturale” e “violento” richiede l’inserimento della modalità “naturale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Il quesito è stato esplicitato per comprendere anche la casistica delle circostanze dubbie e consentire una codifica più adeguata dell’inform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250920" y="1557360"/>
            <a:ext cx="8893080" cy="9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7101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4140360" y="765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18"/>
          <p:cNvGrpSpPr/>
          <p:nvPr/>
        </p:nvGrpSpPr>
        <p:grpSpPr>
          <a:xfrm>
            <a:off x="4716360" y="333360"/>
            <a:ext cx="3743280" cy="3733200"/>
            <a:chOff x="4716360" y="333360"/>
            <a:chExt cx="3743280" cy="3733200"/>
          </a:xfrm>
        </p:grpSpPr>
        <p:grpSp>
          <p:nvGrpSpPr>
            <p:cNvPr id="193" name="Group 16"/>
            <p:cNvGrpSpPr/>
            <p:nvPr/>
          </p:nvGrpSpPr>
          <p:grpSpPr>
            <a:xfrm>
              <a:off x="4716360" y="333360"/>
              <a:ext cx="3743280" cy="3733200"/>
              <a:chOff x="4716360" y="333360"/>
              <a:chExt cx="3743280" cy="3733200"/>
            </a:xfrm>
          </p:grpSpPr>
          <p:grpSp>
            <p:nvGrpSpPr>
              <p:cNvPr id="194" name="Group 14"/>
              <p:cNvGrpSpPr/>
              <p:nvPr/>
            </p:nvGrpSpPr>
            <p:grpSpPr>
              <a:xfrm>
                <a:off x="4716360" y="333360"/>
                <a:ext cx="3743280" cy="3733200"/>
                <a:chOff x="4716360" y="333360"/>
                <a:chExt cx="3743280" cy="3733200"/>
              </a:xfrm>
            </p:grpSpPr>
            <p:sp>
              <p:nvSpPr>
                <p:cNvPr id="195" name="Rectangle 12"/>
                <p:cNvSpPr/>
                <p:nvPr/>
              </p:nvSpPr>
              <p:spPr>
                <a:xfrm>
                  <a:off x="4716360" y="333360"/>
                  <a:ext cx="3743280" cy="2664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6" name="Text Box 13"/>
                <p:cNvSpPr/>
                <p:nvPr/>
              </p:nvSpPr>
              <p:spPr>
                <a:xfrm>
                  <a:off x="4928040" y="1635120"/>
                  <a:ext cx="3082680" cy="243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buClr>
                      <a:srgbClr val="333399"/>
                    </a:buClr>
                    <a:buFont typeface="Tahoma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Tahoma"/>
                    </a:rPr>
                    <a:t> </a:t>
                  </a:r>
                  <a:r>
                    <a:rPr b="1" lang="en-US" sz="1800" spc="-1" strike="noStrike">
                      <a:solidFill>
                        <a:srgbClr val="333399"/>
                      </a:solidFill>
                      <a:latin typeface="Tahoma"/>
                    </a:rPr>
                    <a:t>Sia nella parte a cura del medico che in quella per l’ufficiale di stato civi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spcBef>
                      <a:spcPts val="1125"/>
                    </a:spcBef>
                    <a:buClr>
                      <a:srgbClr val="333399"/>
                    </a:buClr>
                    <a:buFont typeface="Tahoma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Tahoma"/>
                    </a:rPr>
                    <a:t> </a:t>
                  </a:r>
                  <a:r>
                    <a:rPr b="1" lang="en-US" sz="1800" spc="-1" strike="noStrike">
                      <a:solidFill>
                        <a:srgbClr val="333399"/>
                      </a:solidFill>
                      <a:latin typeface="Tahoma"/>
                    </a:rPr>
                    <a:t>Consente una razionalizzazione della stampa e della movimentazio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197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844960" y="430920"/>
                <a:ext cx="1536840" cy="120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8" name="Text Box 17"/>
            <p:cNvSpPr/>
            <p:nvPr/>
          </p:nvSpPr>
          <p:spPr>
            <a:xfrm>
              <a:off x="7540920" y="433440"/>
              <a:ext cx="6350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3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9" name="AutoShape 19"/>
          <p:cNvSpPr/>
          <p:nvPr/>
        </p:nvSpPr>
        <p:spPr>
          <a:xfrm>
            <a:off x="8964720" y="18900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7101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/>
          <p:cNvSpPr/>
          <p:nvPr/>
        </p:nvSpPr>
        <p:spPr>
          <a:xfrm>
            <a:off x="1403280" y="270828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7">
            <a:hlinkClick r:id="rId2" action="ppaction://hlinksldjump"/>
          </p:cNvPr>
          <p:cNvSpPr/>
          <p:nvPr/>
        </p:nvSpPr>
        <p:spPr>
          <a:xfrm>
            <a:off x="1042920" y="479736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8840880" y="3789360"/>
            <a:ext cx="6062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179280" y="3933720"/>
            <a:ext cx="3745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uttura “a righe” come sul certificato internazion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4 righe e non più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struzioni e definizio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L’ordine è quello italiano tradizionale (causa iniziale nella prima rig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492360" y="3789360"/>
            <a:ext cx="532764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7101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4140360" y="765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4">
            <a:hlinkClick r:id="rId2" action="ppaction://hlinksldjump"/>
          </p:cNvPr>
          <p:cNvSpPr/>
          <p:nvPr/>
        </p:nvSpPr>
        <p:spPr>
          <a:xfrm>
            <a:off x="8964720" y="18900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5">
            <a:hlinkClick r:id="rId3" action="ppaction://hlinksldjump"/>
          </p:cNvPr>
          <p:cNvSpPr/>
          <p:nvPr/>
        </p:nvSpPr>
        <p:spPr>
          <a:xfrm>
            <a:off x="2556000" y="105264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AutoShape 6">
            <a:hlinkClick r:id="rId4" action="ppaction://hlinksldjump"/>
          </p:cNvPr>
          <p:cNvSpPr/>
          <p:nvPr/>
        </p:nvSpPr>
        <p:spPr>
          <a:xfrm>
            <a:off x="1403280" y="270828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1042920" y="450864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utoShape 8">
            <a:hlinkClick r:id="rId5" action="ppaction://hlinksldjump"/>
          </p:cNvPr>
          <p:cNvSpPr/>
          <p:nvPr/>
        </p:nvSpPr>
        <p:spPr>
          <a:xfrm>
            <a:off x="2195640" y="62064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AutoShape 9">
            <a:hlinkClick r:id="rId6" action="ppaction://hlinksldjump"/>
          </p:cNvPr>
          <p:cNvSpPr/>
          <p:nvPr/>
        </p:nvSpPr>
        <p:spPr>
          <a:xfrm>
            <a:off x="7524720" y="47628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8028000" y="220500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0"/>
            <a:ext cx="9144000" cy="43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79280" y="260280"/>
            <a:ext cx="813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n caso di morte esterna si chiede di compilare anche il quesito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Circostanza che ha dato origine alle lesioni indicate nel quesito 5 parte 1 (es. caduta da scala a pioli, etc…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79280" y="17733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n caso di incidente da trasporto di chiede di specificare anch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8282160" y="189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281160" y="2492280"/>
            <a:ext cx="88628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15640" y="188640"/>
            <a:ext cx="73436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Nuovi Standard Europei 1/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ottotitolo 1"/>
          <p:cNvSpPr/>
          <p:nvPr/>
        </p:nvSpPr>
        <p:spPr>
          <a:xfrm>
            <a:off x="857160" y="1309680"/>
            <a:ext cx="814392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16 Dic 2008 è stato approvato dal Parlamento europeo e dal Consiglio il Regolamento Europeo (CE n. 1338/2008) relativo a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statistiche in materia di sanità pubblic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er 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cause di mort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è attualmente in fase di predisposizione l’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Implementing Regulation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he definisce con maggiore precision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e definizioni da adottare (stillbirths, neonatal, perinatal…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e informazioni da fornire su bas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obbligatori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e su bas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volonta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tempistica dell’invio dei dati (24 mes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definizione della flusso e della tempistica per il recupero dei morti e nati morti nella comunità Europea ma in un paese diverso da quello della loro residen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Regolamento riguarda anche i ‘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nati morti’ definiti tali secondo i criteri indicati dall’OMS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finizione basata sul peso (500 g) o le settimane di gestazione (22) a differenza della definizione utilizzata attualmente in Italia (180 giorn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ottotitolo 1"/>
          <p:cNvSpPr/>
          <p:nvPr/>
        </p:nvSpPr>
        <p:spPr>
          <a:xfrm>
            <a:off x="1042920" y="1071720"/>
            <a:ext cx="77439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 quel che riguarda le informazioni per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ortalità perinata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bisognerà fornire all’Eurosta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u bas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Obbligat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Peso alla nasci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tà gestazionale della mad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u bas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Volonta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rdine di nasci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ste tre variabili sono state quindi inserite nell’ed. 2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nella parte a cura del medico certificato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Sottotitolo 1"/>
          <p:cNvSpPr/>
          <p:nvPr/>
        </p:nvSpPr>
        <p:spPr>
          <a:xfrm>
            <a:off x="1116000" y="189000"/>
            <a:ext cx="734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Nuovi Standard Europei 2/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115640" y="188640"/>
            <a:ext cx="73436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Migliorare la scheda di morte Ist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ottotitolo 1"/>
          <p:cNvSpPr/>
          <p:nvPr/>
        </p:nvSpPr>
        <p:spPr>
          <a:xfrm>
            <a:off x="900000" y="1052640"/>
            <a:ext cx="77756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izione 2011 dei Modelli - Obiettivi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iù aderenti allo standard O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iù semplice la compilazione da parte dei medici certificato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iù chiara la richiesta di informazioni necessarie per la codif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icadute Prati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glioramento della qualità della certificazion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ggiore efficienza del sistema di codifica automat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tituzione di un dettaglio informativo di migliore contenuto e qualit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azionalizzazione delle fasi di stampa, distribuzione e movimentazione dei model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71640" y="188640"/>
            <a:ext cx="7488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Le  caratteristiche del modello 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rcRect l="6946" t="0" r="27783" b="0"/>
          <a:stretch/>
        </p:blipFill>
        <p:spPr>
          <a:xfrm>
            <a:off x="4788000" y="1052640"/>
            <a:ext cx="4132080" cy="3151080"/>
          </a:xfrm>
          <a:prstGeom prst="rect">
            <a:avLst/>
          </a:prstGeom>
          <a:ln w="0">
            <a:noFill/>
          </a:ln>
        </p:spPr>
      </p:pic>
      <p:sp>
        <p:nvSpPr>
          <p:cNvPr id="152" name="Sottotitolo 1"/>
          <p:cNvSpPr/>
          <p:nvPr/>
        </p:nvSpPr>
        <p:spPr>
          <a:xfrm>
            <a:off x="971640" y="981000"/>
            <a:ext cx="78865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Unico riquadr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: sia per 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rti naturali che per quel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iole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eparazione netta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tra i quesiti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 concatenamento principale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 le altre cause significati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Quattro righe per il concatenament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(a,b,c,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esto guida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affiancato ai quesi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Nella descrizione del processo morboso si parte con la causa più vicina al decesso (nella prima riga) e si prosegue a ritroso fino alla causa iniziale (che sarà riportata nella riga più in basso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71640" y="188640"/>
            <a:ext cx="8029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Nuovo modello Istat: principali elementi innova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ottotitolo 1"/>
          <p:cNvSpPr/>
          <p:nvPr/>
        </p:nvSpPr>
        <p:spPr>
          <a:xfrm>
            <a:off x="971640" y="1052640"/>
            <a:ext cx="748800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o colore per maschio e per femm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o riquadro per le morti da cause naturali e viol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eriore quesito per la descrizione del concatenamento morboso che ha condotto direttamente a m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chiesta di maggiore dettaglio nella certificazione degli accidenti di traspo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zioni ed istruzioni a supporto della codifica sul fronte della sche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8244000" cy="6861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4140360" y="765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8964720" y="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2556000" y="105264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utoShape 12">
            <a:hlinkClick r:id="rId2" action="ppaction://hlinksldjump"/>
          </p:cNvPr>
          <p:cNvSpPr/>
          <p:nvPr/>
        </p:nvSpPr>
        <p:spPr>
          <a:xfrm>
            <a:off x="1403280" y="270828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13">
            <a:hlinkClick r:id="rId3" action="ppaction://hlinksldjump"/>
          </p:cNvPr>
          <p:cNvSpPr/>
          <p:nvPr/>
        </p:nvSpPr>
        <p:spPr>
          <a:xfrm>
            <a:off x="971640" y="4437000"/>
            <a:ext cx="179280" cy="360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60360"/>
              <a:gd name="textAreaBottom" fmla="*/ 348840 h 360360"/>
            </a:gdLst>
            <a:ahLst/>
            <a:rect l="textAreaLeft" t="textAreaTop" r="textAreaRight" b="textAreaBottom"/>
            <a:pathLst>
              <a:path w="21600" h="43373">
                <a:moveTo>
                  <a:pt x="0" y="0"/>
                </a:moveTo>
                <a:lnTo>
                  <a:pt x="21600" y="0"/>
                </a:lnTo>
                <a:lnTo>
                  <a:pt x="21600" y="43373"/>
                </a:lnTo>
                <a:lnTo>
                  <a:pt x="0" y="43373"/>
                </a:lnTo>
                <a:close/>
              </a:path>
              <a:path fill="lightenLess" w="21600" h="4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73">
                <a:moveTo>
                  <a:pt x="21600" y="0"/>
                </a:moveTo>
                <a:lnTo>
                  <a:pt x="21600" y="43373"/>
                </a:lnTo>
                <a:lnTo>
                  <a:pt x="20200" y="41973"/>
                </a:lnTo>
                <a:lnTo>
                  <a:pt x="20200" y="1400"/>
                </a:lnTo>
                <a:close/>
              </a:path>
              <a:path fill="darkenLess" w="21600" h="43373">
                <a:moveTo>
                  <a:pt x="21600" y="43373"/>
                </a:moveTo>
                <a:lnTo>
                  <a:pt x="0" y="43373"/>
                </a:lnTo>
                <a:lnTo>
                  <a:pt x="1400" y="41973"/>
                </a:lnTo>
                <a:lnTo>
                  <a:pt x="20200" y="41973"/>
                </a:lnTo>
                <a:close/>
              </a:path>
              <a:path fill="lighten" w="21600" h="43373">
                <a:moveTo>
                  <a:pt x="0" y="4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73"/>
                </a:lnTo>
                <a:close/>
              </a:path>
              <a:path fill="darken" w="21600" h="43373">
                <a:moveTo>
                  <a:pt x="10800" y="1468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3373">
                <a:moveTo>
                  <a:pt x="10800" y="1505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3373">
                <a:moveTo>
                  <a:pt x="8224" y="19110"/>
                </a:moveTo>
                <a:lnTo>
                  <a:pt x="12088" y="19110"/>
                </a:lnTo>
                <a:lnTo>
                  <a:pt x="12088" y="26108"/>
                </a:lnTo>
                <a:lnTo>
                  <a:pt x="13376" y="26108"/>
                </a:lnTo>
                <a:lnTo>
                  <a:pt x="13376" y="27031"/>
                </a:lnTo>
                <a:lnTo>
                  <a:pt x="8224" y="27031"/>
                </a:lnTo>
                <a:lnTo>
                  <a:pt x="8224" y="26108"/>
                </a:lnTo>
                <a:lnTo>
                  <a:pt x="9512" y="26108"/>
                </a:lnTo>
                <a:lnTo>
                  <a:pt x="9512" y="20015"/>
                </a:lnTo>
                <a:lnTo>
                  <a:pt x="8224" y="2001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71640" y="188640"/>
            <a:ext cx="748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Speriment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ottotitolo 1"/>
          <p:cNvSpPr/>
          <p:nvPr/>
        </p:nvSpPr>
        <p:spPr>
          <a:xfrm>
            <a:off x="900000" y="1052640"/>
            <a:ext cx="8244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tazione qualit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inioni espresse dai certificatori sulla chiarezza e altri aspetti della formulazione dei quesiti attraverso un questionario semi-struttur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entuale Valutazione quantita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la comparabilità dei dati rilevati con i due strum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 miglioramento della qualità della certificazio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l’impatto sulla codifica automat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71640" y="188640"/>
            <a:ext cx="748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Speriment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Sottotitolo 1"/>
          <p:cNvSpPr/>
          <p:nvPr/>
        </p:nvSpPr>
        <p:spPr>
          <a:xfrm>
            <a:off x="900000" y="907920"/>
            <a:ext cx="824400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rument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i reali provenienti dalla pratica abituale di certifica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dalità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ascun medico certifica lo stesso caso utilizzando entrambi gli strume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5:26:13Z</dcterms:created>
  <dc:creator>istat</dc:creator>
  <dc:description/>
  <dc:language>en-US</dc:language>
  <cp:lastModifiedBy>UTENTE</cp:lastModifiedBy>
  <dcterms:modified xsi:type="dcterms:W3CDTF">2010-01-25T08:46:00Z</dcterms:modified>
  <cp:revision>400</cp:revision>
  <dc:subject/>
  <dc:title>Diapositiva 1</dc:title>
</cp:coreProperties>
</file>