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20.wmf" ContentType="image/x-wmf"/>
  <Override PartName="/ppt/media/image17.png" ContentType="image/png"/>
  <Override PartName="/ppt/media/image21.wmf" ContentType="image/x-wmf"/>
  <Override PartName="/ppt/media/image6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28F-58F7-4732-B6F3-D07FB02C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025-F183-4AC5-B233-CE4CBA8E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857-35B5-4264-9636-A35F5C72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814-DF51-4321-A01C-121CDA0D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80C-5E48-4DA9-B4CE-71CD8256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108-9E72-4175-A087-6D160243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B8D-B1F5-4429-8DAF-26C25DC8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466-06BE-452D-95D0-0598FE66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7FA-F23D-4365-B0BB-B2CA4EBF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391-95A9-4E0D-BA4D-31E92540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94D-BB94-4D43-BCF8-20F6B40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CC3-5A89-43F4-8E24-0E0DFC0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1F82-1688-49CF-ACED-0AF72493C5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usl.mo.it/dsp/epi/box/area/mortalitarer2007/access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daniele.agostini@tiscali.it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Gli strumenti di codifica: </a:t>
            </a:r>
            <a:br>
              <a:rPr sz="4400"/>
            </a:b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Acme transax e “Feolino”</a:t>
            </a:r>
            <a:br>
              <a:rPr sz="4400"/>
            </a:br>
            <a:br>
              <a:rPr sz="44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ria Giulia Gatti-Bologna 10/02/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Google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Feo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1157400"/>
            <a:ext cx="7848360" cy="415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olin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olon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lenco codici ICD-9 e ICD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Feo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59280" y="4292640"/>
            <a:ext cx="12254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99"/>
                </a:solidFill>
                <a:latin typeface="Verdana"/>
              </a:rPr>
              <a:t>Username:mortalitarer PW:wlapap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582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2340000" y="443700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Feol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Feol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olin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lenco codici ICD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2000" y="512640"/>
            <a:ext cx="619272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Elenco cod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Feol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36760"/>
            <a:ext cx="84978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99"/>
                </a:solidFill>
                <a:latin typeface="Verdana"/>
              </a:rPr>
              <a:t>Accuratezza e riproducibilit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e vogliamo un dato reale l’iter diagnosi-certificazione-codifica deve essere il più possibile corr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e vogliamo un dato riproducibile occorre dopo aver formato i certificatori che la codifica sia standardizz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Acme trans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’parte di un software americano per la codifica automa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i scarica dal sito del C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nsente una volta inseriti i codici relativi alle descrizioni delle patologie di ottenere la causa di de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serve per  i traumi e le cause este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cc99"/>
                </a:solidFill>
                <a:latin typeface="Verdana"/>
              </a:rPr>
              <a:t>http://www.cdc.gov/nchs/nvss/mmds.h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4818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…</a:t>
            </a: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se riuscite a scaricarlo!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865160"/>
            <a:ext cx="79898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99"/>
                </a:solidFill>
                <a:latin typeface="Verdana"/>
              </a:rPr>
              <a:t>…</a:t>
            </a:r>
            <a:r>
              <a:rPr b="0" lang="it-IT" sz="4000" spc="-1" strike="noStrike">
                <a:solidFill>
                  <a:srgbClr val="00cc99"/>
                </a:solidFill>
                <a:latin typeface="Verdana"/>
              </a:rPr>
              <a:t>una volta installato si creano queste 3 icone…ma solo una ci è veramente ut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47640" y="2565360"/>
          <a:ext cx="3095640" cy="17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565360"/>
                    <a:ext cx="309564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364000" y="3068640"/>
          <a:ext cx="252108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068640"/>
                    <a:ext cx="252108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924360" y="5013360"/>
          <a:ext cx="2160360" cy="11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5013360"/>
                    <a:ext cx="216036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908000" y="2349360"/>
            <a:ext cx="2665440" cy="187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Aprite acme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Date un nome al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10800000">
            <a:off x="5363640" y="4797000"/>
            <a:ext cx="2232360" cy="576360"/>
          </a:xfrm>
          <a:prstGeom prst="wedgeRectCallout">
            <a:avLst>
              <a:gd name="adj1" fmla="val 50495"/>
              <a:gd name="adj2" fmla="val 1508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7 caratt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981000"/>
            <a:ext cx="847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99"/>
                </a:solidFill>
                <a:latin typeface="Verdana"/>
              </a:rPr>
              <a:t>In ACME/TRANSAX per poter inserire i codici di una scheda bisogna prima creare/aprire un file d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99"/>
                </a:solidFill>
                <a:latin typeface="Verdana"/>
              </a:rPr>
              <a:t>La prima volta è necessario creare il file, le volte successive è sufficiente aprire il file creato precedentemente e modificare i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99"/>
                </a:solidFill>
                <a:latin typeface="Verdana"/>
              </a:rPr>
              <a:t>Inserite dei codici fittizi per incominciare </a:t>
            </a:r>
            <a:br>
              <a:rPr sz="4000"/>
            </a:br>
            <a:r>
              <a:rPr b="0" lang="it-IT" sz="1800" spc="-1" strike="noStrike">
                <a:solidFill>
                  <a:srgbClr val="00cc99"/>
                </a:solidFill>
                <a:latin typeface="Verdana"/>
              </a:rPr>
              <a:t>(negli USA servono per l’identificazione dei certifca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99"/>
                </a:solidFill>
                <a:latin typeface="Verdana"/>
              </a:rPr>
              <a:t>specif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2760" y="1700280"/>
            <a:ext cx="893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p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characters, the first character can be either alpha or numeric;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and third characters must be numer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 #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from 1-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#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from 0-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-digit year from the death certificate (va bene un ann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sias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identifying the state from which the death certific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tes. (02=Alaska. Se non prende numeri inserire 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r 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from 0-9 used to identify the status of the co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" y="18900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Verdana"/>
              </a:rPr>
              <a:t>INSERIRE INFORMAZIONI DI T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Verdana"/>
              </a:rPr>
              <a:t>(HEADER 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cc99"/>
                </a:solidFill>
                <a:latin typeface="Verdana"/>
              </a:rPr>
              <a:t>Inserite i codici delle patologie seguendo un ordine inverso</a:t>
            </a:r>
            <a:r>
              <a:rPr b="0" i="1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Utilizzo del d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73160" y="2166840"/>
            <a:ext cx="6997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4775040" cy="6875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08360" y="404640"/>
            <a:ext cx="9144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4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5013360"/>
            <a:ext cx="9144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3645000"/>
            <a:ext cx="91440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46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1916280"/>
            <a:ext cx="93492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11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96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2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046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oplasia osse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1 me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44640"/>
            <a:ext cx="38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rdiopatia ipertensiv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9 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suff. respir. cronic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2 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A inferio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1 g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378936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isto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15772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pertensione arterios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20 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7621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523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04000" cy="577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0" y="765000"/>
            <a:ext cx="4105440" cy="360360"/>
          </a:xfrm>
          <a:prstGeom prst="borderCallout1">
            <a:avLst>
              <a:gd name="adj1" fmla="val 18750"/>
              <a:gd name="adj2" fmla="val -8333"/>
              <a:gd name="adj3" fmla="val 165199"/>
              <a:gd name="adj4" fmla="val -80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dice della causa ter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1844640"/>
            <a:ext cx="4605480" cy="360360"/>
          </a:xfrm>
          <a:prstGeom prst="borderCallout1">
            <a:avLst>
              <a:gd name="adj1" fmla="val 18750"/>
              <a:gd name="adj2" fmla="val -8333"/>
              <a:gd name="adj3" fmla="val -62995"/>
              <a:gd name="adj4" fmla="val -517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use intermedie (un codice ogni cell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907640" y="1557000"/>
            <a:ext cx="136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78120" y="2354400"/>
            <a:ext cx="4605480" cy="360360"/>
          </a:xfrm>
          <a:prstGeom prst="borderCallout1">
            <a:avLst>
              <a:gd name="adj1" fmla="val 18750"/>
              <a:gd name="adj2" fmla="val -8333"/>
              <a:gd name="adj3" fmla="val -152865"/>
              <a:gd name="adj4" fmla="val -521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use iniziali (un codice ogni cell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2997360"/>
            <a:ext cx="4605480" cy="360360"/>
          </a:xfrm>
          <a:prstGeom prst="borderCallout1">
            <a:avLst>
              <a:gd name="adj1" fmla="val 18750"/>
              <a:gd name="adj2" fmla="val -8333"/>
              <a:gd name="adj3" fmla="val -155064"/>
              <a:gd name="adj4" fmla="val -543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cause (un codice ogni cell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75640" cy="5832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51280" y="1989000"/>
            <a:ext cx="4392720" cy="2087640"/>
          </a:xfrm>
          <a:prstGeom prst="wedgeRectCallout">
            <a:avLst>
              <a:gd name="adj1" fmla="val -65504"/>
              <a:gd name="adj2" fmla="val -963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compila automaticamente mentre si inseriscono i d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potrebbe anche inserire direttamente ma è meglio lasciar far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8713800" cy="4821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87640" y="4292640"/>
            <a:ext cx="2305080" cy="647640"/>
          </a:xfrm>
          <a:prstGeom prst="wedgeRoundRectCallout">
            <a:avLst>
              <a:gd name="adj1" fmla="val -48620"/>
              <a:gd name="adj2" fmla="val 17181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alvare 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42903" t="47768" r="44092" b="39174"/>
          <a:stretch/>
        </p:blipFill>
        <p:spPr>
          <a:xfrm>
            <a:off x="4140360" y="3933720"/>
            <a:ext cx="1014120" cy="760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92360" y="260280"/>
            <a:ext cx="5472000" cy="1513080"/>
          </a:xfrm>
          <a:prstGeom prst="wedgeRectCallout">
            <a:avLst>
              <a:gd name="adj1" fmla="val -51884"/>
              <a:gd name="adj2" fmla="val 916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tutto è andato bene e la scheda non è scartata da ACME il menù “Process” rimane attivo altrimenti diventa grigio chiaro (inattiv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75640" cy="4594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42903" t="47768" r="44092" b="39174"/>
          <a:stretch/>
        </p:blipFill>
        <p:spPr>
          <a:xfrm>
            <a:off x="3924360" y="4149720"/>
            <a:ext cx="12952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192320"/>
            <a:ext cx="83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297080"/>
            <a:ext cx="8642160" cy="457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16360" y="2997360"/>
            <a:ext cx="93636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99"/>
                </a:solidFill>
                <a:latin typeface="Verdana"/>
              </a:rPr>
              <a:t>Comando importante: Alt-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4775040" cy="6875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708360" y="404640"/>
            <a:ext cx="9144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4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5013360"/>
            <a:ext cx="9144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8360" y="3645000"/>
            <a:ext cx="91440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46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1916280"/>
            <a:ext cx="93492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11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96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2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4046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oplasia osse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1 me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44640"/>
            <a:ext cx="38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rdiopatia ipertensiv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9 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suff. respir. cronic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2 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A inferio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1 g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78936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isto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15772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pertensione arterios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20 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28600"/>
            <a:ext cx="363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R.A.L. 79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Principio Generale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Regola 1: I1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Regola C: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I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7621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523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Tahoma"/>
              </a:rPr>
              <a:t>Strumenti di codi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istono i testi tradotti dell’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istono documenti scaricabili dai siti dell’OMS e del C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 dal sito della Ausl di Modena: Manuale, “Feoli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Attenzione: il manuale da noi redatto (gruppo codifica in ICD-10) al momento è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obsolet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236000" y="1628640"/>
            <a:ext cx="830160" cy="118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1470240" cy="1589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59640" y="3213000"/>
            <a:ext cx="2016000" cy="146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651640" y="5157720"/>
            <a:ext cx="208728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Feol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un indice aggiuntivo contenente voci relative a patologie non presenti sull’indice ufficiale ICD-10 ma utilizzate dai medici certificatori raccolte da Daniele Agostini, sfruttando l’esperienza di alcuni registri e sulla forma base data da Feola in passato con ICD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ltima versione è di Luglio 2009 (sul nostro sito è presente quella di gennaio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in ev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accettano suggerimenti o modifiche da parte degli utilizz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Dove  si reper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3644640"/>
            <a:ext cx="79898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usl.mo.it/dsp/epi/box/area/mortalitarer2007/acces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sione gennaio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ppure sul gruppo ICD-10 di “google groups” versione luglio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Immagine: barra di intestazione dell'Azienda USL di Modena-Dipartimento di Sanità Pubblica"/>
          <p:cNvPicPr/>
          <p:nvPr/>
        </p:nvPicPr>
        <p:blipFill>
          <a:blip r:embed="rId2"/>
          <a:stretch/>
        </p:blipFill>
        <p:spPr>
          <a:xfrm>
            <a:off x="611280" y="2852640"/>
            <a:ext cx="8136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99"/>
                </a:solidFill>
                <a:latin typeface="Verdana"/>
              </a:rPr>
              <a:t>Ultima versione: il “Feolon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’ un “Feolino” con aggiunta di tutti i codici e le descrizioni presenti nel Vol.1 ICD-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è ancora stato inserito sul sito della Ausl, si può trovare all’interno di un gruppo di Google creato apposta per lo scambio di informazioni tra codificatori e un gruppo di “esperti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informazioni o inserimento nel gruppo contattare Daniele Agost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daniele.agostini@tiscali.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Google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99"/>
                </a:solidFill>
                <a:latin typeface="Verdana"/>
              </a:rPr>
              <a:t>Introdu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Provenienza delle singole vo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ignificato delle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ignificato delle Abbrevi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Asteris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Contenuto delle colo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ttigi</cp:lastModifiedBy>
  <dcterms:modified xsi:type="dcterms:W3CDTF">2010-02-09T14:49:08Z</dcterms:modified>
  <cp:revision>45</cp:revision>
  <dc:subject/>
  <dc:title>PowerPoint Presentation</dc:title>
</cp:coreProperties>
</file>